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DD45-6533-4F3A-873D-B84523A65C3B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B8420-B007-4A69-BAFB-E8D51D34D4DE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F167-4E68-49B5-BBBF-78B21B3F2E4D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7C4D0-45BD-4045-BA51-E53D1CC7E2E7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1B2A-7A7E-4CA3-91D3-D8734B6C4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EF02-ECA0-4E5C-A4BF-9DC1291D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10B9-6750-49A2-B450-CD32D4A1B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832A-FEA0-4D63-A617-08A013C35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F866-B467-428C-9623-CE0CD759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81D4-CCAE-4E72-98E9-574B0BD8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6EBC-1ACE-46BD-845A-667BD956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21CD-31DA-457B-BC3C-DDE2D6F0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3408-8AFF-4BD7-B70E-8840E564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898F-F7FB-4CED-B1EF-4549129A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6E32-974B-47A0-A8F5-9FD64DB6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77B6-2D6C-4E43-8DAA-8B24C581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B3D2-0CD4-4824-904C-BAD4872D70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A94D-7915-419D-8AC9-1F5BF754D6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ariff-based competitive bidding for procurement of 2000 MW of solar power in Telangana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id Deadline : 15 May 2015, 17:00 H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Arial"/>
                <a:ea typeface="Arial"/>
              </a:rPr>
              <a:t>Authorized Representative: TSSPDC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Arial"/>
                <a:ea typeface="Arial"/>
              </a:rPr>
              <a:t>(Southern Power Distribution Company of Telangana Limited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Arial"/>
                <a:ea typeface="Arial"/>
              </a:rPr>
              <a:t>Procurers: TSSPDCL and TSNPDC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752480" y="5943600"/>
          <a:ext cx="6096240" cy="7318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Note</a:t>
                      </a:r>
                      <a:r>
                        <a:rPr b="1" lang="en-US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: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he terms and conditions mentioned in this PPT are subject to revised RfS and PPA to be uploaded so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52280" y="990360"/>
            <a:ext cx="8763120" cy="37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All Bid parameters are ranked from lowest to highest and allocation shall start from Bidder with first rank i.e. </a:t>
            </a:r>
            <a:r>
              <a:rPr b="1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lowest tariff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. In case bid parameters for two bids is the same, then the  bid corresponding to </a:t>
            </a:r>
            <a:r>
              <a:rPr b="1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higher offered capacity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will be given better rank. If both bid parameter and offered capacity are the same, bidder demonstrating </a:t>
            </a:r>
            <a:r>
              <a:rPr b="1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higher net worth </a:t>
            </a: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is given prefer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Arial"/>
                <a:ea typeface="Arial"/>
              </a:rPr>
              <a:t>Multiple Financial Bids can be submitted by the Bidder. But allocation will happen in the stacking order of bid parameter only. Hence a bidder may have more than one position in the ranking order depending on the number of financial bids submit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valuation of Bids and allocation of Interconnection Substations (1/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3600360" y="4038480"/>
            <a:ext cx="1866960" cy="190800"/>
          </a:xfrm>
          <a:prstGeom prst="rect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LLU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74680" y="4267080"/>
          <a:ext cx="8443800" cy="2479680"/>
        </p:xfrm>
        <a:graphic>
          <a:graphicData uri="http://schemas.openxmlformats.org/drawingml/2006/table">
            <a:tbl>
              <a:tblPr/>
              <a:tblGrid>
                <a:gridCol w="1785960"/>
                <a:gridCol w="1035000"/>
                <a:gridCol w="917640"/>
                <a:gridCol w="917640"/>
                <a:gridCol w="917280"/>
                <a:gridCol w="917640"/>
                <a:gridCol w="919080"/>
                <a:gridCol w="1033560"/>
              </a:tblGrid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dd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 Parameter (Rs/uni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ered Capa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W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M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 worth  (Rs C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C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 C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9da92"/>
                    </a:solidFill>
                  </a:tcPr>
                </a:tc>
              </a:tr>
            </a:tbl>
          </a:graphicData>
        </a:graphic>
      </p:graphicFrame>
      <p:sp>
        <p:nvSpPr>
          <p:cNvPr id="78" name="Oval 9"/>
          <p:cNvSpPr/>
          <p:nvPr/>
        </p:nvSpPr>
        <p:spPr>
          <a:xfrm>
            <a:off x="6515280" y="4452840"/>
            <a:ext cx="2171520" cy="1947960"/>
          </a:xfrm>
          <a:prstGeom prst="ellipse">
            <a:avLst/>
          </a:prstGeom>
          <a:noFill/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6"/>
          <p:cNvSpPr/>
          <p:nvPr/>
        </p:nvSpPr>
        <p:spPr>
          <a:xfrm>
            <a:off x="3809880" y="4529160"/>
            <a:ext cx="2133720" cy="1185840"/>
          </a:xfrm>
          <a:prstGeom prst="ellipse">
            <a:avLst/>
          </a:prstGeom>
          <a:noFill/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903C-8897-428B-B254-E7AD4A66EE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llustration</a:t>
            </a:r>
            <a:br>
              <a:rPr sz="4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Numbers and values used for substations are purely representativ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B6D5-0EDE-49C3-9A5D-F8E5D3B44A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85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(150/15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88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10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91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94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 in MW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1"/>
          <p:cNvSpPr/>
          <p:nvPr/>
        </p:nvSpPr>
        <p:spPr>
          <a:xfrm>
            <a:off x="4618080" y="838080"/>
            <a:ext cx="208764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1"/>
          <p:cNvSpPr/>
          <p:nvPr/>
        </p:nvSpPr>
        <p:spPr>
          <a:xfrm>
            <a:off x="60480" y="72396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"/>
          <p:cNvSpPr/>
          <p:nvPr/>
        </p:nvSpPr>
        <p:spPr>
          <a:xfrm>
            <a:off x="2577600" y="3220920"/>
            <a:ext cx="422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hadnagar can accommodate B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0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3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6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144C-FAF8-4565-85EC-4EB72BECF0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76 -1.48148E-006 L 0.0448 0.18125 C 0.05764 0.21968 0.06476 0.27662 0.06476 0.33634 C 0.06476 0.40417 0.05764 0.4581 0.0448 0.49653 L -0.01076 0.67824 E">
                                      <p:cBhvr>
                                        <p:cTn id="12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114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(</a:t>
              </a: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70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/1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117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10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120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123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9"/>
          <p:cNvSpPr/>
          <p:nvPr/>
        </p:nvSpPr>
        <p:spPr>
          <a:xfrm>
            <a:off x="122400" y="54784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1"/>
          <p:cNvSpPr/>
          <p:nvPr/>
        </p:nvSpPr>
        <p:spPr>
          <a:xfrm>
            <a:off x="4618080" y="838080"/>
            <a:ext cx="208764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2570400" y="3220920"/>
            <a:ext cx="38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Veltoor can accommodate B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ounded Rectangle 30"/>
          <p:cNvSpPr/>
          <p:nvPr/>
        </p:nvSpPr>
        <p:spPr>
          <a:xfrm>
            <a:off x="2286000" y="73980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6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7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8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7586-759E-4987-93BF-E956E51637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5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76 -4.44444E-006 L -0.04288 0.18125 C -0.05 0.21945 -0.05399 0.27662 -0.05399 0.33635 C -0.05399 0.40394 -0.05 0.45811 -0.04288 0.4963 L -0.01076 0.67778 E">
                                      <p:cBhvr>
                                        <p:cTn id="24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143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(70/1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146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149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152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9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0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1"/>
          <p:cNvSpPr/>
          <p:nvPr/>
        </p:nvSpPr>
        <p:spPr>
          <a:xfrm>
            <a:off x="461808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"/>
          <p:cNvSpPr/>
          <p:nvPr/>
        </p:nvSpPr>
        <p:spPr>
          <a:xfrm>
            <a:off x="209520" y="2981160"/>
            <a:ext cx="367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hadnagar can NOT accommodate 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ltoor can NOT accommodate 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Isosceles Triangle 1"/>
          <p:cNvSpPr/>
          <p:nvPr/>
        </p:nvSpPr>
        <p:spPr>
          <a:xfrm rot="5400000">
            <a:off x="3124080" y="3217680"/>
            <a:ext cx="1904760" cy="2160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4435560" y="2473200"/>
            <a:ext cx="440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3 has five o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 Projects at a reduced capa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lit Offered Capacity into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 partial capacity at one or more Interconnection S/s from the list and move to second round for balanc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ve to second round for entire offered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draw from the bid process altogether and EMD will be retur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3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6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7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ounded Rectangle 30"/>
          <p:cNvSpPr/>
          <p:nvPr/>
        </p:nvSpPr>
        <p:spPr>
          <a:xfrm>
            <a:off x="4495680" y="73980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E2483-4B88-4F7A-B005-CDA005027F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174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(70/1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177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180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183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0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1"/>
          <p:cNvSpPr/>
          <p:nvPr/>
        </p:nvSpPr>
        <p:spPr>
          <a:xfrm>
            <a:off x="461808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70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"/>
          <p:cNvSpPr/>
          <p:nvPr/>
        </p:nvSpPr>
        <p:spPr>
          <a:xfrm>
            <a:off x="209520" y="2981160"/>
            <a:ext cx="367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hadnagar can NOT accommodate 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ltoor can NOT accommodate 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Isosceles Triangle 1"/>
          <p:cNvSpPr/>
          <p:nvPr/>
        </p:nvSpPr>
        <p:spPr>
          <a:xfrm rot="5400000">
            <a:off x="3124080" y="3217680"/>
            <a:ext cx="1904760" cy="2160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4435560" y="2473200"/>
            <a:ext cx="440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3 has five o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Develop Projects at a reduced capa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lit Offered Capacity into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 partial capacity at one or more Interconnection S/s from the list and move to second round for balanc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ve to second round for entire offered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draw from the bid process altogether and EMD will be retur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3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6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7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8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3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ounded Rectangle 30"/>
          <p:cNvSpPr/>
          <p:nvPr/>
        </p:nvSpPr>
        <p:spPr>
          <a:xfrm>
            <a:off x="4495680" y="73980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FECD-64DD-459C-AB01-7EA2F92593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48148E-006 L -0.4941 0.73333 E">
                                      <p:cBhvr>
                                        <p:cTn id="46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207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(</a:t>
              </a:r>
              <a:r>
                <a:rPr b="0" lang="en-US" sz="1800" spc="-1" strike="noStrike">
                  <a:solidFill>
                    <a:srgbClr val="ff0000"/>
                  </a:solidFill>
                  <a:latin typeface="Calibri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/1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210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213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216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1"/>
          <p:cNvSpPr/>
          <p:nvPr/>
        </p:nvSpPr>
        <p:spPr>
          <a:xfrm>
            <a:off x="122400" y="5857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3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6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7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8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3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ounded Rectangle 30"/>
          <p:cNvSpPr/>
          <p:nvPr/>
        </p:nvSpPr>
        <p:spPr>
          <a:xfrm>
            <a:off x="4495680" y="73980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4"/>
          <p:cNvSpPr/>
          <p:nvPr/>
        </p:nvSpPr>
        <p:spPr>
          <a:xfrm>
            <a:off x="235800" y="2981160"/>
            <a:ext cx="87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B3 selected 70 MW at Shadnagar in First Round and did not participate in the Second 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100A-1638-4809-93CC-AA9BF7214B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238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(0/15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241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244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247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4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5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1"/>
          <p:cNvSpPr/>
          <p:nvPr/>
        </p:nvSpPr>
        <p:spPr>
          <a:xfrm>
            <a:off x="122400" y="5857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2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ounded Rectangle 30"/>
          <p:cNvSpPr/>
          <p:nvPr/>
        </p:nvSpPr>
        <p:spPr>
          <a:xfrm>
            <a:off x="6651720" y="72396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3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7"/>
          <p:cNvSpPr/>
          <p:nvPr/>
        </p:nvSpPr>
        <p:spPr>
          <a:xfrm>
            <a:off x="204120" y="2981160"/>
            <a:ext cx="33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ltoor can NOT accommodate B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Isosceles Triangle 38"/>
          <p:cNvSpPr/>
          <p:nvPr/>
        </p:nvSpPr>
        <p:spPr>
          <a:xfrm rot="5400000">
            <a:off x="3124080" y="3217680"/>
            <a:ext cx="1904760" cy="2160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3"/>
          <p:cNvSpPr/>
          <p:nvPr/>
        </p:nvSpPr>
        <p:spPr>
          <a:xfrm>
            <a:off x="4435560" y="2473200"/>
            <a:ext cx="440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4 has five o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 Projects at a reduced capa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lit Offered Capacity into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 partial capacity at one or more Interconnection S/s from the list and move to second round for balanc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ve to second round for entire offered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draw from the bid process altogether and EMD will be retur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238D-8115-4B0B-9C76-280F95FCB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3"/>
          <p:cNvSpPr/>
          <p:nvPr/>
        </p:nvSpPr>
        <p:spPr>
          <a:xfrm>
            <a:off x="122400" y="4716360"/>
            <a:ext cx="8762760" cy="381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ubstations: (Available capacity/ max capac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19"/>
          <p:cNvGrpSpPr/>
          <p:nvPr/>
        </p:nvGrpSpPr>
        <p:grpSpPr>
          <a:xfrm>
            <a:off x="122400" y="5135400"/>
            <a:ext cx="2087280" cy="1447920"/>
            <a:chOff x="122400" y="5135400"/>
            <a:chExt cx="2087280" cy="1447920"/>
          </a:xfrm>
        </p:grpSpPr>
        <p:sp>
          <p:nvSpPr>
            <p:cNvPr id="271" name="Rectangle 11"/>
            <p:cNvSpPr/>
            <p:nvPr/>
          </p:nvSpPr>
          <p:spPr>
            <a:xfrm>
              <a:off x="122400" y="5135400"/>
              <a:ext cx="20872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Shadnagar </a:t>
              </a:r>
              <a:r>
                <a:rPr b="0" lang="en-US" sz="1600" spc="-1" strike="noStrike">
                  <a:solidFill>
                    <a:srgbClr val="ffffff"/>
                  </a:solidFill>
                  <a:latin typeface="Calibri"/>
                </a:rPr>
                <a:t>(0/15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2"/>
            <p:cNvSpPr/>
            <p:nvPr/>
          </p:nvSpPr>
          <p:spPr>
            <a:xfrm>
              <a:off x="122400" y="5439960"/>
              <a:ext cx="20872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20"/>
          <p:cNvGrpSpPr/>
          <p:nvPr/>
        </p:nvGrpSpPr>
        <p:grpSpPr>
          <a:xfrm>
            <a:off x="2346480" y="5135400"/>
            <a:ext cx="2089080" cy="1447920"/>
            <a:chOff x="2346480" y="5135400"/>
            <a:chExt cx="2089080" cy="1447920"/>
          </a:xfrm>
        </p:grpSpPr>
        <p:sp>
          <p:nvSpPr>
            <p:cNvPr id="274" name="Rectangle 13"/>
            <p:cNvSpPr/>
            <p:nvPr/>
          </p:nvSpPr>
          <p:spPr>
            <a:xfrm>
              <a:off x="2346480" y="5135400"/>
              <a:ext cx="208908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eltoor (50/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4"/>
            <p:cNvSpPr/>
            <p:nvPr/>
          </p:nvSpPr>
          <p:spPr>
            <a:xfrm>
              <a:off x="2346480" y="5439960"/>
              <a:ext cx="208908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21"/>
          <p:cNvGrpSpPr/>
          <p:nvPr/>
        </p:nvGrpSpPr>
        <p:grpSpPr>
          <a:xfrm>
            <a:off x="4572000" y="5135400"/>
            <a:ext cx="2087640" cy="1447920"/>
            <a:chOff x="4572000" y="5135400"/>
            <a:chExt cx="2087640" cy="1447920"/>
          </a:xfrm>
        </p:grpSpPr>
        <p:sp>
          <p:nvSpPr>
            <p:cNvPr id="277" name="Rectangle 15"/>
            <p:cNvSpPr/>
            <p:nvPr/>
          </p:nvSpPr>
          <p:spPr>
            <a:xfrm>
              <a:off x="457200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KM Pally (60/6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457200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22"/>
          <p:cNvGrpSpPr/>
          <p:nvPr/>
        </p:nvGrpSpPr>
        <p:grpSpPr>
          <a:xfrm>
            <a:off x="6797520" y="5135400"/>
            <a:ext cx="2087640" cy="1447920"/>
            <a:chOff x="6797520" y="5135400"/>
            <a:chExt cx="2087640" cy="1447920"/>
          </a:xfrm>
        </p:grpSpPr>
        <p:sp>
          <p:nvSpPr>
            <p:cNvPr id="280" name="Rectangle 17"/>
            <p:cNvSpPr/>
            <p:nvPr/>
          </p:nvSpPr>
          <p:spPr>
            <a:xfrm>
              <a:off x="6797520" y="5135400"/>
              <a:ext cx="2087640" cy="304560"/>
            </a:xfrm>
            <a:prstGeom prst="rect">
              <a:avLst/>
            </a:prstGeom>
            <a:solidFill>
              <a:srgbClr val="0f6f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Durshed (50/5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8"/>
            <p:cNvSpPr/>
            <p:nvPr/>
          </p:nvSpPr>
          <p:spPr>
            <a:xfrm>
              <a:off x="6797520" y="5439960"/>
              <a:ext cx="2087640" cy="1143360"/>
            </a:xfrm>
            <a:prstGeom prst="rect">
              <a:avLst/>
            </a:prstGeom>
            <a:solidFill>
              <a:srgbClr val="e5f4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Rectangle 23"/>
          <p:cNvSpPr/>
          <p:nvPr/>
        </p:nvSpPr>
        <p:spPr>
          <a:xfrm>
            <a:off x="122400" y="304920"/>
            <a:ext cx="8762760" cy="3808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dders (Capacity) and their preferred s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5"/>
          <p:cNvSpPr/>
          <p:nvPr/>
        </p:nvSpPr>
        <p:spPr>
          <a:xfrm>
            <a:off x="198360" y="838080"/>
            <a:ext cx="208764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6"/>
          <p:cNvSpPr/>
          <p:nvPr/>
        </p:nvSpPr>
        <p:spPr>
          <a:xfrm>
            <a:off x="198360" y="1143000"/>
            <a:ext cx="208764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8"/>
          <p:cNvSpPr/>
          <p:nvPr/>
        </p:nvSpPr>
        <p:spPr>
          <a:xfrm>
            <a:off x="24084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9"/>
          <p:cNvSpPr/>
          <p:nvPr/>
        </p:nvSpPr>
        <p:spPr>
          <a:xfrm>
            <a:off x="24084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M P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ur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1"/>
          <p:cNvSpPr/>
          <p:nvPr/>
        </p:nvSpPr>
        <p:spPr>
          <a:xfrm>
            <a:off x="4632480" y="835200"/>
            <a:ext cx="20890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2"/>
          <p:cNvSpPr/>
          <p:nvPr/>
        </p:nvSpPr>
        <p:spPr>
          <a:xfrm>
            <a:off x="4632480" y="1139760"/>
            <a:ext cx="20890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4"/>
          <p:cNvSpPr/>
          <p:nvPr/>
        </p:nvSpPr>
        <p:spPr>
          <a:xfrm>
            <a:off x="6751800" y="835200"/>
            <a:ext cx="2087280" cy="30456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5"/>
          <p:cNvSpPr/>
          <p:nvPr/>
        </p:nvSpPr>
        <p:spPr>
          <a:xfrm>
            <a:off x="6751800" y="1139760"/>
            <a:ext cx="2087280" cy="1143000"/>
          </a:xfrm>
          <a:prstGeom prst="rect">
            <a:avLst/>
          </a:prstGeom>
          <a:solidFill>
            <a:srgbClr val="94f5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lt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9"/>
          <p:cNvSpPr/>
          <p:nvPr/>
        </p:nvSpPr>
        <p:spPr>
          <a:xfrm>
            <a:off x="198360" y="835200"/>
            <a:ext cx="208764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0"/>
          <p:cNvSpPr/>
          <p:nvPr/>
        </p:nvSpPr>
        <p:spPr>
          <a:xfrm>
            <a:off x="2408400" y="83808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1"/>
          <p:cNvSpPr/>
          <p:nvPr/>
        </p:nvSpPr>
        <p:spPr>
          <a:xfrm>
            <a:off x="122400" y="5857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3 (7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2"/>
          <p:cNvSpPr/>
          <p:nvPr/>
        </p:nvSpPr>
        <p:spPr>
          <a:xfrm>
            <a:off x="6751800" y="84924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4 (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50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ounded Rectangle 30"/>
          <p:cNvSpPr/>
          <p:nvPr/>
        </p:nvSpPr>
        <p:spPr>
          <a:xfrm>
            <a:off x="6651720" y="723960"/>
            <a:ext cx="2286000" cy="1679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3"/>
          <p:cNvSpPr/>
          <p:nvPr/>
        </p:nvSpPr>
        <p:spPr>
          <a:xfrm>
            <a:off x="122400" y="5481720"/>
            <a:ext cx="2087280" cy="3045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1 (8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6"/>
          <p:cNvSpPr/>
          <p:nvPr/>
        </p:nvSpPr>
        <p:spPr>
          <a:xfrm>
            <a:off x="2362320" y="5479920"/>
            <a:ext cx="2087280" cy="3049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2 (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37"/>
          <p:cNvSpPr/>
          <p:nvPr/>
        </p:nvSpPr>
        <p:spPr>
          <a:xfrm>
            <a:off x="204120" y="2981160"/>
            <a:ext cx="33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Veltoor can NOT accommodate B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Isosceles Triangle 38"/>
          <p:cNvSpPr/>
          <p:nvPr/>
        </p:nvSpPr>
        <p:spPr>
          <a:xfrm rot="5400000">
            <a:off x="3124080" y="3217680"/>
            <a:ext cx="1904760" cy="216000"/>
          </a:xfrm>
          <a:prstGeom prst="triangle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43"/>
          <p:cNvSpPr/>
          <p:nvPr/>
        </p:nvSpPr>
        <p:spPr>
          <a:xfrm>
            <a:off x="4435560" y="2473200"/>
            <a:ext cx="44035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4 has five o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velop Projects at a reduced capac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plit Offered Capacity into fract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velop partial capacity at one or more Interconnection S/s from the list and move to second round for balance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ove to second round for entire offered capa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ithdraw from the bid process altogether and EMD will be retur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"/>
          <p:cNvSpPr/>
          <p:nvPr/>
        </p:nvSpPr>
        <p:spPr>
          <a:xfrm>
            <a:off x="-47520" y="3479760"/>
            <a:ext cx="36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B4 opted to participate in 2nd r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 balance 50 M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16B3-D3D7-4411-AABC-6CFB06691B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-4.81481E-006 L -0.47986 0.7338 E">
                                      <p:cBhvr>
                                        <p:cTn id="52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  <a:ea typeface="Arial"/>
              </a:rPr>
              <a:t>Authorized Representative: TSSPDC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purpose of this presentation i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provide a summar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the Bid Model for the Telangana solar tender. The model essentially revolves around a distributed generation format with projects connected at 33kV, 132 kV and 220 kV voltage level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idders have to rely on the bid documents available on the website for all the terms and conditions applicable for the Bid. This presentation only provides a quick overview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not comprehensiv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 nature. In the event of any discrepancy between this presentation and the bid documents, the bid documents will overrule this documen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s presentation attempts to provide clarifications on some of the queries raised by the Bidders but Bidders should solely rely on the clarifications/amendments issued by the Authorized Representative on the eProcurement platform/website as the case may 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35D7-BF7B-43D5-A76F-DF50FBDE28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" y="0"/>
          <a:ext cx="8839080" cy="6616800"/>
        </p:xfrm>
        <a:graphic>
          <a:graphicData uri="http://schemas.openxmlformats.org/drawingml/2006/table">
            <a:tbl>
              <a:tblPr/>
              <a:tblGrid>
                <a:gridCol w="2819520"/>
                <a:gridCol w="6019560"/>
              </a:tblGrid>
              <a:tr h="38736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 Project Capa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W at 33/11 kv sub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 Project Capa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MW on double circuit line at 220/132 kV or 400/220 kV sub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V (technology agnostic within P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R 10 Lakhs/MW through BG (210 days from bid deadline) for each Financial B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case of foreign companies, Indian affiliate can furnish bank guarantee along with additional documents mention in R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ing F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n Thousand (Rs 10,000/-) per MW of Offered Capacity subject to a maximum of Rs One Lakh (Rs 1,00,000) for each B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ance Bank Guarant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R 20 Lakhs/MW per Project in three BG (15%, 35% and 50%) valid for 18 months from signing of PPA (PBG to be submitted within 30 days of issue of LOI failing which EMD will be forfeite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300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gi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Eligibility: Commercial and technically proven technologies to be adop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th: INR 2 crore/MW of Bid Capac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ies, Partnerships, Individuals, foreign companies, LLC are eligi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brid Consortiums are not eligible for participation in this RF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s, foreign companies, foreign individuals must create project companies with equity infused to INR 0.6 Cr/MW by PPA signing and INR 1.4 Cr/MW by financial clos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4A6D-5527-44A4-93AF-F1C959951D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52280" y="304920"/>
          <a:ext cx="8839440" cy="5940360"/>
        </p:xfrm>
        <a:graphic>
          <a:graphicData uri="http://schemas.openxmlformats.org/drawingml/2006/table">
            <a:tbl>
              <a:tblPr/>
              <a:tblGrid>
                <a:gridCol w="2819520"/>
                <a:gridCol w="6019920"/>
              </a:tblGrid>
              <a:tr h="111924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vidu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 ID proof and Address Proof for Indian natio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port copy for Foreign nation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 returns for past 4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ertificate for demonstrating net wor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888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 Fir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ed accounts for past 4 yea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ertificate demonstrating net wor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 d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of attorney in favour of authorized signa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9556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ed accounts for past 4 years for financially evaluated ent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 certificate demonstrating net wor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orporation documents (CoI, MoA and Ao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of attorney/Board Resolution in favour of authorized signat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ard Resolution of affiliate if financials are used for meeting minimum networth require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668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orti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ch member of consortium must submit the above documents as applic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of attorney in favour of lead member (Individuals and Partnership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ard Resolution/Power of Attorney in favour of Lead Member for Compan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6225-680D-486A-BD8A-95C54F19E7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228600" y="158760"/>
          <a:ext cx="8686800" cy="6165720"/>
        </p:xfrm>
        <a:graphic>
          <a:graphicData uri="http://schemas.openxmlformats.org/drawingml/2006/table">
            <a:tbl>
              <a:tblPr/>
              <a:tblGrid>
                <a:gridCol w="3048120"/>
                <a:gridCol w="5638680"/>
              </a:tblGrid>
              <a:tr h="3366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A basi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ndard PPA issued in April 2015 with relevant modification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 of PP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years from CO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period for commission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months from signing of PP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period for financial closure and conditions subsequ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 days from signing of PP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th infus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 of requirement before PPA execution and balance before financial closu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location/si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 be changed till financial closu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obligations of develop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taining all consents and clearan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ing, financing, construction, owning and operating the power st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interconnection facilities till Interconnection poi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ng and maintenance of power plant to conform with RLDC/SLDC/TSTRANSCO/IEGC norm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8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penalties for lower CU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beyond 25% CUF will be billed at 50% of applicable tariff for that yea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344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Dispatc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energy for DISCOMS’ exclusive benef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ed Energy prior to COD shall be purchased at Quoted Tarif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ment term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54000" bIns="54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ly bill payment. Rebate and Late payment interest provided</a:t>
                      </a:r>
                      <a:br>
                        <a:rPr sz="1500"/>
                      </a:br>
                      <a:r>
                        <a:rPr b="0" lang="en-IN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ment security is letter of cred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C159-3BE8-44F8-B9A4-7A1B7BE01D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rief Overview and Project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685800"/>
          <a:ext cx="8229600" cy="5994360"/>
        </p:xfrm>
        <a:graphic>
          <a:graphicData uri="http://schemas.openxmlformats.org/drawingml/2006/table">
            <a:tbl>
              <a:tblPr/>
              <a:tblGrid>
                <a:gridCol w="1143000"/>
                <a:gridCol w="7086600"/>
              </a:tblGrid>
              <a:tr h="368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ct Loc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der is free to set up Projects anywhere in the Sta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/Project site can be changed until financial closu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ct capac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u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W at Delivery Voltage of 33 kV at 33/11kV subs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imu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MW (double circuit line) 220 kV Delivery Voltage at 400/220 kV subs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Capacity Limits defined at each voltage level and at each s/s category under Annexure 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connection Subs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solidFill>
                      <a:srgbClr val="0f6fc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59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ingle Project shall be connected to a single Interconnection Substation. It is the onus of the Bidder to demonstrate that Project(s) proposed have distinct boundaries, to the satisfaction of the Authorized Representativ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t any substation can have multiple projects connected to it depending on available capacity specified in the Rf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der shall submit a List of Preferred Interconnection Substations (At least 1 and upto 10) where he intends to connect the entire Offered Capac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ocation (in order of bid parameter) shall be done in the order of the preference lis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fter issue of LOI, Interconnection Substation cannot be chang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a6dc6"/>
                      </a:solidFill>
                    </a:lnL>
                    <a:lnR w="4320">
                      <a:solidFill>
                        <a:srgbClr val="0a6dc6"/>
                      </a:solidFill>
                    </a:lnR>
                    <a:lnT w="4320">
                      <a:solidFill>
                        <a:srgbClr val="0a6dc6"/>
                      </a:solidFill>
                    </a:lnT>
                    <a:lnB w="4320">
                      <a:solidFill>
                        <a:srgbClr val="0a6dc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1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8E76-972D-4C3B-B6D5-BC2FD6555F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1065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riff, Evaluation and Pay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04920" y="609480"/>
          <a:ext cx="8686800" cy="3368880"/>
        </p:xfrm>
        <a:graphic>
          <a:graphicData uri="http://schemas.openxmlformats.org/drawingml/2006/table">
            <a:tbl>
              <a:tblPr/>
              <a:tblGrid>
                <a:gridCol w="2666880"/>
                <a:gridCol w="3200400"/>
                <a:gridCol w="2819520"/>
              </a:tblGrid>
              <a:tr h="353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iff Options (all tariffs for evaluation and payment shall be on Tariff Year basi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iff Year shall mean 365 days from COD and last Tariff Year shall end on expiry of PP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y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</a:tr>
              <a:tr h="16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form Tarif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der quotes a single Quoted Tariff uniformly applicable for the entire term of PP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d Parameter is Quoted Tarif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oted Tariff shall be applicable for the entire term of the PP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Delivered energy prior to the COD of the Project shall be purchased at tariff of first Tariff Year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04920" y="4373640"/>
            <a:ext cx="8686800" cy="24541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304920" y="4038480"/>
            <a:ext cx="8686800" cy="335160"/>
          </a:xfrm>
          <a:prstGeom prst="rect">
            <a:avLst/>
          </a:prstGeom>
          <a:solidFill>
            <a:srgbClr val="e5f4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iling Tari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0135-A0C4-475E-A483-18CB521A0B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roup 1 Bids (injecting at 33/11 kV s/s) and Group 2 Bids (injecting at EHT s/s of 132/33 kV and above) shall be evaluated separately and process of allocation will be separate for these two Grou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llocation will be undertaken for Group 1 Bids first, followed by Group 2 Bid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C813-1FC1-47AC-ADC6-3786FEDF1B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0240" y="685800"/>
            <a:ext cx="5989680" cy="55213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triction on capacity limit for distri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6073920" y="1184400"/>
            <a:ext cx="289548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trict capacity constraint supersedes sum of all substation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llu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hbubnagar’s capacity for group I i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tal capacities of s/s (132/33 kV) under Mahbubnagar is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27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8120" indent="-168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pacities shall be allocated till 100 MW and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227 MW in Mahbubnag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524C-CE5B-4B45-AF07-F68CF45353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0240" y="6186600"/>
            <a:ext cx="591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he Authorized Representative reserves the right to change the Requisitioned Capacity as specified abo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KPMG</dc:creator>
  <dc:description/>
  <dc:language>en-US</dc:language>
  <cp:lastModifiedBy>ipc</cp:lastModifiedBy>
  <dcterms:modified xsi:type="dcterms:W3CDTF">2015-04-22T08:34:29Z</dcterms:modified>
  <cp:revision>211</cp:revision>
  <dc:subject/>
  <dc:title>Competitive bidding for procurement of 500 MW of solar power – An overview</dc:title>
</cp:coreProperties>
</file>